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8D07-0893-43A6-82F8-003E63877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5F50-AF44-4427-9EB3-A55226EAD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20B9-88E6-4010-BBBC-06E501B23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50BC-56DF-4956-8AD9-8B5403052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967C-2EDF-4691-90F4-39F84EEB0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69BE-6F14-4F1E-A8A3-0F401A7F6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0C7E-55FD-4DA8-95E6-7EA9E55FC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0089-6C0C-40E9-BD4F-7AB83634D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F739-8C57-459B-9208-8D8E7B6BD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902B-16C0-475E-B6B5-7F4102B5C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D39D-166A-4807-A7A1-53389C0A3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5149-3480-46DE-825E-9802AD14A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4FCE4-D70A-4572-A8CC-3568F6806BD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4200" y="1357200"/>
            <a:ext cx="892980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XDA FIRM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ftware download process for model- A1(Ringer failure 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85880" y="1071720"/>
            <a:ext cx="6643800" cy="4676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4200" y="214200"/>
            <a:ext cx="87156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 handset with PC/Laptop(without battery)  and insure that the com. port is generated under device manag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7296120" cy="448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200" y="214200"/>
            <a:ext cx="85726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mply click on marked (India Karbonn N721(A1)Updater.exe) icon which is downloaded from C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643520" cy="339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5840" y="357120"/>
            <a:ext cx="81439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ing downloading It will show as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8120" y="1500120"/>
            <a:ext cx="756144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5840" y="428760"/>
            <a:ext cx="7929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fter completed it will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4240" y="1428840"/>
            <a:ext cx="82155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